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612A-1B1A-439B-BB20-50344AF36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68E7-5F6F-4EEA-8825-7C9DF86F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A2B3-0492-4186-8F95-CA7879FD5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CA6B-5051-4DCB-B17A-17480EC2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940C-D273-47CF-B521-80DC8FEE5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37C1-F934-4A60-A0A0-280FC966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F9D4-C0F7-45EF-A7F4-0EC642EA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426E-DCAE-490C-ADEA-CDA92097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211D-2241-4349-9632-DC4F7DAD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542D-B569-495A-9612-82F01DD9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4453-698F-4E85-9A2B-72592EA3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5EA4-5B12-4AF1-90D6-4B87CC75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84D0-EBC8-4570-B254-88BAEB75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F6CA-728E-4660-AF29-3218CAF0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F1F4-6B2C-404D-AA98-8F219387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5101-B2C2-47B0-951B-7F968A8D0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004A-774C-4D16-A7FC-54CE9EB89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FA254-8F6B-4338-A66D-E4E34356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D96FF-237A-4930-A3AE-49A1E393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5F4CF-85CF-4CBA-8D7F-729C3AEF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4CB0D-4E30-4458-A212-E5CFB2F1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BF789-99C1-473A-B1A1-88AE69EC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DA44-440F-488E-A5DC-49DF8D00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60A3B-5E5F-4EAD-994C-B223EEE0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4DE48-F3A4-4C56-BE7E-FE34B142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3E451-6792-464D-88F2-E2ED9AE1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9B7CF-C5B8-48AE-9633-2E29DB46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1C9AC-B45C-4BED-A4F5-A8148D48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9D0AD-5AC4-4E3C-BE15-254EB6E5B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8B1C6-9F37-4B4A-8773-7D58B541B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D7E77-BF18-4403-943E-5038A72B2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EE452-E23E-45B0-B9F5-40E8C8B3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6CE6E-78E0-42E7-AB35-D5CA628F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0605-9CF6-453B-9B93-B85B3A62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62E12-0F0D-48BA-8F55-59DFB15C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8CF90-8BA0-4B39-ABDE-821535FD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368A6-D644-4DD1-B478-20E938FD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6676E-ABAB-4F14-87B7-C8F0A94D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648AD-41DD-4CEF-97D8-9037EB29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61083-7952-4B98-9E04-ED7A10FA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3E285-8228-4F2F-A130-27E0655D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F5D6A-FC63-48CC-BD1B-283E61B8D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D0DB0-1C0D-448E-99C1-484E68D71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98E3C-98F0-4634-BB5F-0E88FECCD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B946-9E56-401C-80F7-A3E8BF5B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8FD92-4647-4498-90AC-F79B1BAC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8FB70-ED09-4AFF-9298-5B4E336C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C20A6-2809-49FD-BF1B-2D0C8B6B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EC656-C8BC-4EEE-ACD0-94D3F82E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ED484-E61C-47DE-94FA-FB0D210B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78661-9E67-4A89-9449-239E8345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35EA7-CC71-48AA-AB57-685ED17F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D54AF-64B6-487A-BF16-924C68B8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D16A1-CAA3-4A61-ADDF-B8767D2B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DD105-027A-4FF7-A240-13E1D1F8D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0AE2-2018-40A3-92C4-37420327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2F96E-A1BA-4141-BE7B-D2C23AC95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07AA-8CA3-4F44-AFE4-D5BD5303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7E45-F27A-4F86-B6B2-C07B13A9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A93B-2F4E-4667-9C1C-859AC350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66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6666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666666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F74D-4219-48CC-8663-92C131FA5F21}" type="slidenum">
              <a:rPr b="0" lang="en-AU" sz="1100" spc="-1" strike="noStrike">
                <a:solidFill>
                  <a:srgbClr val="666666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78D2-0EE7-4E29-A984-B8B97E09EF27}" type="slidenum">
              <a:rPr b="0" lang="en-AU" sz="11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66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6666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666666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4B39-3B83-4351-95C9-163E76254C82}" type="slidenum">
              <a:rPr b="0" lang="en-AU" sz="1100" spc="-1" strike="noStrike">
                <a:solidFill>
                  <a:srgbClr val="666666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2d2d2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d2d2d2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2d2d2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d2d2d2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D506-3E40-40F3-B22B-86A15EA2A1A1}" type="slidenum">
              <a:rPr b="0" lang="en-AU" sz="1100" spc="-1" strike="noStrike">
                <a:solidFill>
                  <a:srgbClr val="d2d2d2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66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6666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666666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F305-F279-45FC-83EF-256ED5ED8543}" type="slidenum">
              <a:rPr b="0" lang="en-AU" sz="1100" spc="-1" strike="noStrike">
                <a:solidFill>
                  <a:srgbClr val="666666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11956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286080" y="3785760"/>
            <a:ext cx="5572080" cy="2714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17bbfd"/>
                </a:solidFill>
                <a:uFillTx/>
                <a:latin typeface="Century Gothic"/>
                <a:hlinkClick r:id="rId2" action="ppaction://hlinksldjump"/>
              </a:rPr>
              <a:t>Independen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17bbfd"/>
                </a:solidFill>
                <a:uFillTx/>
                <a:latin typeface="Century Gothic"/>
                <a:hlinkClick r:id="rId3" action="ppaction://hlinksldjump"/>
              </a:rPr>
              <a:t>Governmen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17bbfd"/>
                </a:solidFill>
                <a:uFillTx/>
                <a:latin typeface="Century Gothic"/>
                <a:hlinkClick r:id="rId4" action="ppaction://hlinksldjump"/>
              </a:rPr>
              <a:t>Quee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17bbfd"/>
                </a:solidFill>
                <a:uFillTx/>
                <a:latin typeface="Century Gothic"/>
                <a:hlinkClick r:id="rId5" action="ppaction://hlinksldjump"/>
              </a:rPr>
              <a:t>Democracy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17bbfd"/>
                </a:solidFill>
                <a:uFillTx/>
                <a:latin typeface="Century Gothic"/>
                <a:hlinkClick r:id="rId6" action="ppaction://hlinksldjump"/>
              </a:rPr>
              <a:t>Ay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17bbfd"/>
                </a:solidFill>
                <a:uFillTx/>
                <a:latin typeface="Century Gothic"/>
                <a:hlinkClick r:id="rId7" action="ppaction://hlinksldjump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17bbfd"/>
                </a:solidFill>
                <a:uFillTx/>
                <a:latin typeface="Century Gothic"/>
                <a:hlinkClick r:id="rId8" action="ppaction://hlinksldjump"/>
              </a:rPr>
              <a:t>Law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17bbfd"/>
                </a:solidFill>
                <a:uFillTx/>
                <a:latin typeface="Century Gothic"/>
                <a:hlinkClick r:id="rId9" action="ppaction://hlinksldjump"/>
              </a:rPr>
              <a:t>Federa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Heart 3"/>
          <p:cNvSpPr/>
          <p:nvPr/>
        </p:nvSpPr>
        <p:spPr>
          <a:xfrm>
            <a:off x="428760" y="1785960"/>
            <a:ext cx="7500960" cy="3429000"/>
          </a:xfrm>
          <a:prstGeom prst="pie">
            <a:avLst/>
          </a:prstGeom>
          <a:solidFill>
            <a:srgbClr val="ff388c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Title 1" descr=""/>
          <p:cNvPicPr/>
          <p:nvPr/>
        </p:nvPicPr>
        <p:blipFill>
          <a:blip r:embed="rId1"/>
          <a:stretch/>
        </p:blipFill>
        <p:spPr>
          <a:xfrm>
            <a:off x="420840" y="-6480"/>
            <a:ext cx="7254720" cy="10130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entury Gothic"/>
              </a:rPr>
              <a:t>An Independent is a member of parliament who does not belong to a political party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Rounded Rectangle 5"/>
          <p:cNvSpPr/>
          <p:nvPr/>
        </p:nvSpPr>
        <p:spPr>
          <a:xfrm>
            <a:off x="6429240" y="6000840"/>
            <a:ext cx="1714680" cy="857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17bbfd"/>
                </a:solidFill>
                <a:uFillTx/>
                <a:latin typeface="Century Gothic"/>
                <a:hlinkClick r:id="rId2" action="ppaction://hlinksldjump"/>
              </a:rPr>
              <a:t>Back to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420840" y="-6480"/>
            <a:ext cx="7254720" cy="1158840"/>
          </a:xfrm>
          <a:prstGeom prst="rect">
            <a:avLst/>
          </a:prstGeom>
          <a:ln w="0">
            <a:noFill/>
          </a:ln>
        </p:spPr>
      </p:pic>
      <p:sp>
        <p:nvSpPr>
          <p:cNvPr id="227" name="Sun 3"/>
          <p:cNvSpPr/>
          <p:nvPr/>
        </p:nvSpPr>
        <p:spPr>
          <a:xfrm>
            <a:off x="571680" y="1357200"/>
            <a:ext cx="7000560" cy="5214960"/>
          </a:xfrm>
          <a:prstGeom prst="sun">
            <a:avLst>
              <a:gd name="adj" fmla="val 25000"/>
            </a:avLst>
          </a:prstGeom>
          <a:solidFill>
            <a:srgbClr val="00b050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28760" y="12855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Gothic"/>
              </a:rPr>
              <a:t>Government means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Gothic"/>
              </a:rPr>
              <a:t>to rule or control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Rounded Rectangle 4"/>
          <p:cNvSpPr/>
          <p:nvPr/>
        </p:nvSpPr>
        <p:spPr>
          <a:xfrm>
            <a:off x="6572160" y="6000840"/>
            <a:ext cx="1571760" cy="857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17bbfd"/>
                </a:solidFill>
                <a:uFillTx/>
                <a:latin typeface="Century Gothic"/>
                <a:hlinkClick r:id="rId2" action="ppaction://hlinksldjump"/>
              </a:rPr>
              <a:t>Back to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7254720" cy="1159200"/>
          </a:xfrm>
          <a:prstGeom prst="rect">
            <a:avLst/>
          </a:prstGeom>
          <a:ln w="0">
            <a:noFill/>
          </a:ln>
        </p:spPr>
      </p:pic>
      <p:sp>
        <p:nvSpPr>
          <p:cNvPr id="231" name="Smiley Face 3"/>
          <p:cNvSpPr/>
          <p:nvPr/>
        </p:nvSpPr>
        <p:spPr>
          <a:xfrm>
            <a:off x="1428840" y="1785960"/>
            <a:ext cx="5286240" cy="4214880"/>
          </a:xfrm>
          <a:prstGeom prst="smileyFace">
            <a:avLst>
              <a:gd name="adj" fmla="val 9282"/>
            </a:avLst>
          </a:prstGeom>
          <a:solidFill>
            <a:srgbClr val="00b0f0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entury Gothic"/>
              </a:rPr>
              <a:t>The Queen is Australia’s head of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ounded Rectangle 5"/>
          <p:cNvSpPr/>
          <p:nvPr/>
        </p:nvSpPr>
        <p:spPr>
          <a:xfrm>
            <a:off x="6357960" y="6072120"/>
            <a:ext cx="1785960" cy="785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17bbfd"/>
                </a:solidFill>
                <a:uFillTx/>
                <a:latin typeface="Century Gothic"/>
                <a:hlinkClick r:id="rId2" action="ppaction://hlinksldjump"/>
              </a:rPr>
              <a:t>Back to 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566640" y="-6480"/>
            <a:ext cx="7248600" cy="1158840"/>
          </a:xfrm>
          <a:prstGeom prst="rect">
            <a:avLst/>
          </a:prstGeom>
          <a:ln w="0">
            <a:noFill/>
          </a:ln>
        </p:spPr>
      </p:pic>
      <p:sp>
        <p:nvSpPr>
          <p:cNvPr id="234" name="Pie 3"/>
          <p:cNvSpPr/>
          <p:nvPr/>
        </p:nvSpPr>
        <p:spPr>
          <a:xfrm>
            <a:off x="1714680" y="1357200"/>
            <a:ext cx="5286240" cy="4714920"/>
          </a:xfrm>
          <a:prstGeom prst="pie">
            <a:avLst/>
          </a:prstGeom>
          <a:solidFill>
            <a:srgbClr val="ff66ff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42960" y="20109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entury Gothic"/>
              </a:rPr>
              <a:t>Democracy is a form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entury Gothic"/>
              </a:rPr>
              <a:t>of government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Rounded Rectangle 5"/>
          <p:cNvSpPr/>
          <p:nvPr/>
        </p:nvSpPr>
        <p:spPr>
          <a:xfrm>
            <a:off x="6357960" y="6072120"/>
            <a:ext cx="1785960" cy="785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entury Gothic"/>
              </a:rPr>
              <a:t>Back to 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Cloud Callout 3"/>
          <p:cNvSpPr/>
          <p:nvPr/>
        </p:nvSpPr>
        <p:spPr>
          <a:xfrm>
            <a:off x="1428840" y="1928880"/>
            <a:ext cx="5715000" cy="32860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7bbff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856800" y="2010960"/>
            <a:ext cx="723924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entury Gothic"/>
              </a:rPr>
              <a:t>Aye is another word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entury Gothic"/>
              </a:rPr>
              <a:t>for yes in parliament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Rounded Rectangle 4"/>
          <p:cNvSpPr/>
          <p:nvPr/>
        </p:nvSpPr>
        <p:spPr>
          <a:xfrm>
            <a:off x="6357960" y="6072120"/>
            <a:ext cx="1785960" cy="785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entury Gothic"/>
              </a:rPr>
              <a:t>Back to 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2" name="Moon 3"/>
          <p:cNvSpPr/>
          <p:nvPr/>
        </p:nvSpPr>
        <p:spPr>
          <a:xfrm>
            <a:off x="1643040" y="2071800"/>
            <a:ext cx="4572000" cy="4357440"/>
          </a:xfrm>
          <a:custGeom>
            <a:avLst/>
            <a:gdLst>
              <a:gd name="textAreaLeft" fmla="*/ 2328480 w 4572000"/>
              <a:gd name="textAreaRight" fmla="*/ 2994120 w 4572000"/>
              <a:gd name="textAreaTop" fmla="*/ 280080 h 4357440"/>
              <a:gd name="textAreaBottom" fmla="*/ 4077360 h 43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7873" y="2538"/>
                  <a:pt x="14146" y="5080"/>
                  <a:pt x="14146" y="10800"/>
                </a:cubicBezTo>
                <a:cubicBezTo>
                  <a:pt x="14146" y="16520"/>
                  <a:pt x="17873" y="190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20109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entury Gothic"/>
              </a:rPr>
              <a:t>A bill is a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entury Gothic"/>
              </a:rPr>
              <a:t>proposal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entury Gothic"/>
              </a:rPr>
              <a:t>to a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entury Gothic"/>
              </a:rPr>
              <a:t>new law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Rounded Rectangle 4"/>
          <p:cNvSpPr/>
          <p:nvPr/>
        </p:nvSpPr>
        <p:spPr>
          <a:xfrm>
            <a:off x="6357960" y="6072120"/>
            <a:ext cx="1785960" cy="785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entury Gothic"/>
              </a:rPr>
              <a:t>Back to 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6" name="Pentagon 3"/>
          <p:cNvSpPr/>
          <p:nvPr/>
        </p:nvSpPr>
        <p:spPr>
          <a:xfrm>
            <a:off x="2571840" y="2000160"/>
            <a:ext cx="4000320" cy="2071800"/>
          </a:xfrm>
          <a:custGeom>
            <a:avLst/>
            <a:gdLst>
              <a:gd name="textAreaLeft" fmla="*/ 0 w 4000320"/>
              <a:gd name="textAreaRight" fmla="*/ 4000680 w 4000320"/>
              <a:gd name="textAreaTop" fmla="*/ 0 h 2071800"/>
              <a:gd name="textAreaBottom" fmla="*/ 2072160 h 20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07" y="0"/>
                </a:lnTo>
                <a:lnTo>
                  <a:pt x="21600" y="10800"/>
                </a:lnTo>
                <a:lnTo>
                  <a:pt x="160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6666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713880" y="1714680"/>
            <a:ext cx="7239240" cy="48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entury Gothic"/>
              </a:rPr>
              <a:t>A law is a rule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entury Gothic"/>
              </a:rPr>
              <a:t>or a set of rules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Rounded Rectangle 4"/>
          <p:cNvSpPr/>
          <p:nvPr/>
        </p:nvSpPr>
        <p:spPr>
          <a:xfrm>
            <a:off x="6357960" y="6072120"/>
            <a:ext cx="1785960" cy="785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entury Gothic"/>
              </a:rPr>
              <a:t>Back to 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Oval Callout 3"/>
          <p:cNvSpPr/>
          <p:nvPr/>
        </p:nvSpPr>
        <p:spPr>
          <a:xfrm>
            <a:off x="1214280" y="1928880"/>
            <a:ext cx="5429520" cy="24289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92d050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356760" y="1571400"/>
            <a:ext cx="723924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entury Gothic"/>
              </a:rPr>
              <a:t>Federal means having to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AU" sz="2600" spc="-1" strike="noStrike">
                <a:solidFill>
                  <a:srgbClr val="000000"/>
                </a:solidFill>
                <a:latin typeface="Century Gothic"/>
              </a:rPr>
              <a:t>do with the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entury Gothic"/>
              </a:rPr>
              <a:t>Parliament of Australia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Rounded Rectangle 4"/>
          <p:cNvSpPr/>
          <p:nvPr/>
        </p:nvSpPr>
        <p:spPr>
          <a:xfrm>
            <a:off x="6357960" y="6072120"/>
            <a:ext cx="1785960" cy="785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entury Gothic"/>
              </a:rPr>
              <a:t>End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00:42:44Z</dcterms:created>
  <dc:creator>Gr56</dc:creator>
  <dc:description/>
  <dc:language>en-US</dc:language>
  <cp:lastModifiedBy>Gr56</cp:lastModifiedBy>
  <dcterms:modified xsi:type="dcterms:W3CDTF">2009-10-27T23:16:02Z</dcterms:modified>
  <cp:revision>11</cp:revision>
  <dc:subject/>
  <dc:title>anna’s parliament  power point</dc:title>
</cp:coreProperties>
</file>